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5010-5E19-4E6E-8187-0090203C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1899-BC0D-48FD-9BB4-68D221DB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F02C-7897-4499-85B9-41C0811E2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D087-C342-40FF-A3F0-F8F5CF94D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B34B-FDED-4E82-9B60-04D9AA77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12E8-89CE-4929-A45C-570C2092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8AB4-868B-48C9-82AE-AD0F7B45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989E-8C76-447B-979B-10D52710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8B6B-A890-42DE-84AF-31A9A841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B3F3-5513-45D0-9E5A-F24D99D4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6364-7721-4B2A-88C4-9BEAFC2E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20E9-A36C-4FFF-B211-98872910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4145-FA2A-4997-AF28-8EB1C215C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jAlHRmRpwss" TargetMode="External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4nahP_FVnM" TargetMode="External"/><Relationship Id="rId2" Type="http://schemas.openxmlformats.org/officeDocument/2006/relationships/hyperlink" Target="http://www.youtube.com/watch?v=Q4EBOE4pJyw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5WlAFh8pz8w" TargetMode="External"/><Relationship Id="rId2" Type="http://schemas.openxmlformats.org/officeDocument/2006/relationships/hyperlink" Target="http://www.youtube.com/watch?v=WCBXXRFVpqY" TargetMode="External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ExpJAECSL8" TargetMode="External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1-1  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3716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– quantity that has both a number and a u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17524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 3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Celsi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19810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#)     (un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228600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measurement is central to science, especially the experimental scienti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2819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, if its important, we need to be careful and prec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312408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ccuracy vs. Pr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42900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people thing these are the same.  In chemistry, its not true I tell y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40384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Accuracy – how close the measure comes to the actual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44197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Precision – how close a series of measurements are to one an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480060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Chem, we want Both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518148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?  -Take your time!  Its not a rac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teguide 1-3   Met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219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I – revised system (METRIC) –based on the multiples of 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160020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ll scientists around the world use it.  WH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198108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everyone is on the same page.  EX:  space/wrong cal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22860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asic Unit of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447920" y="2743200"/>
          <a:ext cx="6476760" cy="2766960"/>
        </p:xfrm>
        <a:graphic>
          <a:graphicData uri="http://schemas.openxmlformats.org/drawingml/2006/table">
            <a:tbl>
              <a:tblPr/>
              <a:tblGrid>
                <a:gridCol w="2286000"/>
                <a:gridCol w="4190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er (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logram (k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vin (K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ond 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t of subst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le – (mo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dela (c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ctric curr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ere 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prefixes used to give size differences  EX: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kilo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129528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lo = 1000 times bigger than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160020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i = 100 times smaller than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190512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lli = 1000 times smaller than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220968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Volume (space that matter takes 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25146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ase unit is liter (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281952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Mass (how much matter in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312408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ase unit is kil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335268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mass and weight are the same, right?  WRONG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365760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ight is the force of gravity on the MASS of the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3962520"/>
            <a:ext cx="64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 go to the moon, mass has not changed but weight has due to less gravit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45720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emp (how hot or cold and object 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495288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Celsius = scale sets freezing of water at 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and boiling at 10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) Kelvin – sets freezing of water at 27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K and boiling at 373°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137160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lso has absolute zero (last/first spot on the sca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175248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an convert from kelvin to celsius and vice versa eas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213372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C + 273     C = °K - 2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2590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Unit of Energy (capacity to do work; produce he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29718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joule =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335268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alori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uantity of heat that raises the temp of 1 gram of pure water by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sic unit of measure for mass is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lo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li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l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CorShape1"/>
          <p:cNvSpPr/>
          <p:nvPr/>
        </p:nvSpPr>
        <p:spPr>
          <a:xfrm rot="10800000">
            <a:off x="223560" y="2911320"/>
            <a:ext cx="29196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prefix means 100 times smaller than the base un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TPChart"/>
          <p:cNvGraphicFramePr/>
          <p:nvPr/>
        </p:nvGraphicFramePr>
        <p:xfrm>
          <a:off x="127080" y="1841400"/>
          <a:ext cx="914400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80" y="1841400"/>
                    <a:ext cx="914400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97160" y="19810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lo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i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li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cta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CorShape1"/>
          <p:cNvSpPr/>
          <p:nvPr/>
        </p:nvSpPr>
        <p:spPr>
          <a:xfrm rot="10800000">
            <a:off x="1163520" y="2709720"/>
            <a:ext cx="29232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lvin scale sets the boiling point of water at _____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TPChart"/>
          <p:cNvGraphicFramePr/>
          <p:nvPr/>
        </p:nvGraphicFramePr>
        <p:xfrm>
          <a:off x="127080" y="1841400"/>
          <a:ext cx="914400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80" y="1841400"/>
                    <a:ext cx="914400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97160" y="19810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3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3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e of ab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CorShape1"/>
          <p:cNvSpPr/>
          <p:nvPr/>
        </p:nvSpPr>
        <p:spPr>
          <a:xfrm rot="10800000">
            <a:off x="1163520" y="3295440"/>
            <a:ext cx="29232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guide 1-4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D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137160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What is heavier, a pound of paper or a pound of ceme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1752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only difference is the volume of paper compared to c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19810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Density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= rate of the mass of an object to its 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23623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= m /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266688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when we talk about density, it depends only on the composition of a substance, not the size of the 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327672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Relationship of density and te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3581280"/>
            <a:ext cx="69343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sity of substance generally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creases as temp increa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: the volume of a substance changes as the temp. 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4495680"/>
            <a:ext cx="74674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PRACTICE PROBLEM 3.1 #3 PAGE 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PRACTICE PROBLEM 3.4 16 AND 17 PG 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PRACTICE PROBLEM 3.10 46 AND 47 PG. 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ccuracy and Precision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172200" cy="2469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43000" y="36576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Accuracy        Poor Accuracy        Poor Accu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388620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Precis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Good Precision       Poor Pr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426708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Erro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parison of the experimental value compared to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pted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4800600"/>
            <a:ext cx="71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Boiling point of water is 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C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epted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02920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if we measure, it shows 99.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C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erimental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5257800"/>
            <a:ext cx="647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f we know both experimental value and accepted value, we can calculate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tific Notation – used for every large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129528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why use it?  It is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16765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written as a coefficient and 10 to a raised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20574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 602,000,000,000,000,000,000,000 = 6.02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243828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efficient is 6.02 – coefficients have to be equal to 1 or greater and up to 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3124080"/>
            <a:ext cx="6934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we can calculate it: (white boa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2,000,000,000,000,000,0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40384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rule:  move decimal to the left until you get between 1 and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Guide 1-2 Chemistry and Review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129528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emis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the study of the composition of matter (anything that occupies space and has mass) and the changes matter undergo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905120"/>
            <a:ext cx="72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ffects all aspects of life and most natural ev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22096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5 areas of stud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590920"/>
            <a:ext cx="708660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c chem – study of all chemicals with carbon in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organic chem – study of all chemicals without carbon in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ochemistry – study of the processes taking place in 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tical chem – study of the composition of ma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chem – area that deals with the mechanism, the rate and the energy transfer occurring when matter 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ixture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– physical blend of two or more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1295280"/>
            <a:ext cx="72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Heterogeneous – composition is not uniform througho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167652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Homogeneous – composition is uniform through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1440" y="2057400"/>
            <a:ext cx="31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ometimes called a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2514600"/>
            <a:ext cx="739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mical change – change that produces matter with a different composition than the original ma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32004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hemical reacti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– once or more substances change into one or more new substa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43000" y="3886200"/>
            <a:ext cx="7238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reactant – substance which is present at the start of the rea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product – substance produced during the rea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472428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ues to chemical change:  transfer of energy; change in color, production of gas, or production of a precipitate (solid which settles out of a liquid mixtu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onservation of Mas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– in any change, mass is conserved (no mass created nor destroy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152388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mass in = mass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study of all chemicals containing carb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organic Chem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tical Chem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c Chem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ochem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CorShape1"/>
          <p:cNvSpPr/>
          <p:nvPr/>
        </p:nvSpPr>
        <p:spPr>
          <a:xfrm rot="10800000">
            <a:off x="253800" y="2755800"/>
            <a:ext cx="253800" cy="2541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arting substance in a chemical reaction is c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pi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-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CorShape1"/>
          <p:cNvSpPr/>
          <p:nvPr/>
        </p:nvSpPr>
        <p:spPr>
          <a:xfrm rot="10800000">
            <a:off x="223560" y="174276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uracy is the narrowness of range of measur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TPChart"/>
          <p:cNvGraphicFramePr/>
          <p:nvPr/>
        </p:nvGraphicFramePr>
        <p:xfrm>
          <a:off x="127080" y="1830240"/>
          <a:ext cx="9144000" cy="15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80" y="1830240"/>
                    <a:ext cx="914400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97160" y="19810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CorShape1"/>
          <p:cNvSpPr/>
          <p:nvPr/>
        </p:nvSpPr>
        <p:spPr>
          <a:xfrm rot="10800000">
            <a:off x="1163520" y="2709720"/>
            <a:ext cx="29232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20:10:58Z</dcterms:created>
  <dc:creator>Farwell Area Schools</dc:creator>
  <dc:description/>
  <dc:language>en-US</dc:language>
  <cp:lastModifiedBy>Customer</cp:lastModifiedBy>
  <dcterms:modified xsi:type="dcterms:W3CDTF">2009-09-10T18:39:18Z</dcterms:modified>
  <cp:revision>30</cp:revision>
  <dc:subject/>
  <dc:title>Note Guide 1-1   Measurement</dc:title>
</cp:coreProperties>
</file>